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3DE-F965-4A03-93A7-7D41C16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346-F34A-4F1F-A005-C4D54B5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720BC-192E-4E26-80B5-F67C4E77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D2D3C-9A46-489C-8B88-FB2E494C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8A253-A6DA-4023-89B0-D07EE7E0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82C69-8CCE-4BD8-B050-41CDD05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8546A-637D-45D0-8FE2-2775074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3AC1-7DAF-44F2-8E34-7367B64D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45622-FEE4-421A-8533-A1B23349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76235-AD12-4311-ADB6-27022DE7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074D9-EF18-4F1B-A26D-0F957510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B78BB-4069-40E4-842B-F9EBC6E4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6E8-8D0B-4668-97A4-3E556EB4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0B33B-0A07-444A-AF02-286BC2B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0904E-88F9-44F3-9BBB-20F4BF9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14501-EEEE-4855-916B-56E3D7D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CFDB6-AE39-4840-A9EA-24E64C5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C0637-DC8C-44B5-8B0C-750AD36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FEBD1-8BD4-4BAD-9F94-C16AF40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19FA9-C702-4B6E-B6F5-B3296B4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5FE5C-AA5F-4C1F-9005-981D56B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48D61-200F-45B5-814E-3CDA3FCA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06798-938A-41EE-AD31-E3CAD8E0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71D-27F4-4E9D-94A0-7C7976C0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6BB49-F915-453E-A94D-2BC9945D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64F23-99B8-4054-BA3F-FD1B394A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8AF94-0EDD-435C-980A-C475DDA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B5CD-813A-487A-B6D5-4BCB3A74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0EA04-8E08-4878-A545-ABCDA92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CAB7B-8912-48AE-BD83-63971B4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9E441-5222-49E8-BBAF-FA690C6C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6DD8E-348A-4352-9A02-6851030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81CDF-3204-4AB2-AC37-C99C5F9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771C3-7148-46AA-B658-BC2595C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F70E-034D-466A-ACB9-F6B67CF3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8E802-E68E-4A86-93F2-02F90B1E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94873-95CE-4F21-A4E6-E425530A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3D624-9370-48F6-8B32-CE8A91B3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1A757-584B-4285-BE20-7D709457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8C897-C8D3-4691-B808-2A7B993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B5B9A-2C8F-4FAC-A229-CEB184E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103C4-3116-4E89-925F-DE620D25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27E6C-40B6-4B39-A3C4-D3140BD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0A7AC-BE11-4E87-B56C-BFC57CD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34BC2-9159-4362-A313-8A3A19F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EEB7-8E47-47ED-819C-FC42F096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39EDD-8CC3-435B-9884-3F72645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EE6EB-145A-4555-8FA9-B2BDAE7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D4502-C165-4394-99D6-5315E4E5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676FD-667E-4799-BF94-02A5ABA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95289-B253-422E-B51E-776CF1BA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982-74EC-4F1D-A633-5746B9F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978A-AA1D-4AFE-A2A5-D661540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390-51E6-40F4-BBBE-FE909E4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028-6F62-4BC1-86EE-D1BB2C8A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07FE-4804-46F8-92CF-89E4C4E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94A-B335-445D-87AB-F5AE629F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F4B9-F942-47CD-B3DD-D56C9AB3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472E-FE95-4B2F-A685-63C4FE3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09C-86EC-42E6-991C-C7120EF0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4B77-3B31-4818-B26F-8FCE665B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E4AD-44C2-425A-8E65-8683A138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9984-5402-465B-A33C-2765DDA8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E375-CA8E-4505-8010-390BC93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38CE-6B5D-4A64-8EB7-46154E3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618C-8104-4B3B-87D8-23EFB33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91D3-2151-4384-93E7-6625F226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DD5-D39F-4104-8E33-E896E859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40C0-5F08-44D3-BB06-E725EB6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6F66-CF22-4E82-AAEA-3DA3AF2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425E-761A-4CE9-884F-BE9E40FC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54ED-9399-4465-B361-559E59C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9968-8117-486C-B661-CDB048EF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E8049-BB6A-46F2-A08E-9A4F4FE1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43D9-8FE3-470A-A66E-CD5883C0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0A9F-1530-456E-8A25-6378ABC0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E374-80BD-4152-86F2-48B5BB1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56AF-AEBE-4C6F-A421-43A78845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42C-210C-45C2-AE51-CF19613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813A-76F2-4BCA-9EA3-E4BCDE9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7B75-61E5-45DF-B6D9-4A6882EC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454E-36C6-4FE9-BBEB-AB5CF30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8001-8F22-4C98-B0B4-28FE0A56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C18F-B348-41F8-83F2-B729CEC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BB3E-1397-4FC1-AA90-2F369442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BF26-1EB3-41AF-8076-E7B43B0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8850-D93F-4FF1-AD9E-4427B198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677D-8A7A-4F67-ABF0-67AEB398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0335-62A2-441A-A111-5C50DE6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FF8-A493-4D71-BBC8-FCBF57DF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AE24-9C3C-4FB3-962A-19BF155F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E259-FDDE-4EFA-8558-E00B034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BE4A-1FC8-4C0B-9A64-123F1BDA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5121-36D0-4846-BE0C-8EBF5AA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11D49-4067-4E65-BCB5-625ED33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7CAE-FA9B-431B-AB57-7E45AE0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5B301-8CCB-4EA2-A2E5-CF63987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E8A2-9E29-4A34-BB63-CC92AF02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8B8D6-1ABF-4705-BDD9-0EA82C2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73D67-B8A3-4B08-8BC6-CE768BAD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36C-0866-46E3-82DF-B80BD3E6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79A2-4041-4406-9E41-5C2E97AC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14C2-F290-47B8-A4C8-1E4069A0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93B8-A2BE-45B6-878A-F3D0CF0B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E6E9-90F2-4320-AE99-1D1F54F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9818-9FD5-4B1E-AD84-C56148A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8C90-4F4A-45DB-BB62-D0D5ACE9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568D-CDBA-48B8-8C3B-0504E305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8A97-0D51-4B41-AA85-7755494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BFE6-539F-4FAB-993F-BE67A32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028B-4F54-4290-8526-CDF74A3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E92-6D4A-4166-80ED-DCB17EB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4DDA-9632-4BBE-9002-C11E803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A063-B952-43A2-B059-8428612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FF9D-2682-4FC6-B244-8314E984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AB0D-0C48-4FA5-99B2-28CE9B7D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078B-9CA7-41FE-AFD3-DFED56D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4684-4FE7-43E2-811D-DBB026A5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D3B99-9D11-4B9C-88B4-76CB6B8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533C-818E-4E58-A332-F257CB7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FE9C-FEE0-46F0-B7D7-B658B986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89C5D-8BF1-4826-9F26-FA4A5AA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4E2-C811-4849-A5D8-EDC3B71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14B5-A727-4F04-AF63-4E9F978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F10F-8F7C-4BEC-A6FD-B1A0463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D661B-E2B8-4CEF-92C5-0D60F7B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2638-9EFA-4AC7-A117-CBD0AED5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C950-F5D9-4942-9D88-6EEC21FE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B2E8-809E-4130-BDA9-DC020571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7B78-C577-4C6B-98B4-374427DD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8D77-8349-4E40-97ED-ADD6495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6C866-1308-412F-BA31-79FBA3C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E358F-4812-48C0-9F50-168832E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ECE-EEBE-492C-9B4A-1841E6A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DD81-193F-4BD6-B559-F0AF318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716B4-486D-4F6E-B36B-7607267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AB6C-D784-4EDD-90B2-B98193C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971A-1094-4D7A-A302-3E9CD1F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9C0E9-B594-4391-9534-AF78160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CA3A5-D8C6-45CD-B815-2323ADB0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187B5-2139-4F5E-9A9C-81E16CA7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A9943-8993-4D24-AFD6-72A62810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09D18-523B-47E5-8DF9-0A142DF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EB56F-AAC4-403D-8443-77A42A7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39E-C0DF-43D8-B88F-24BD1DB84F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DB4-08A6-48EF-9A07-79A1201F6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317-2531-4E8C-9E95-8A6DF3FBE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0154-D000-4724-8FC3-CCCCF973B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0F3F-61E7-4CB8-813C-975D956DD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6E69-DE2E-4ED6-B608-9174DB675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C31-A39C-44DC-B3D7-7A28569D8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C417-E06D-463B-8ACE-DDFE088C4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033-2805-493D-A960-69F49F040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977-EA1E-46E9-9D3A-B4E2731E9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77D-CB22-4517-8C70-BA87191DC1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1E7-068F-4A69-81CC-C14C5E115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R. SOLOMON MENGIST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DISU ABER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OLOMON ABEY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ANTAHUN DEREJ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EAST Beef group presentation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3173400" y="43434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3C91-5AD8-435D-9332-9CB0D3153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49120" y="4305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he summary of farmers’ view, identified problems &amp; solu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2280" y="1066680"/>
          <a:ext cx="8610840" cy="4480200"/>
        </p:xfrm>
        <a:graphic>
          <a:graphicData uri="http://schemas.openxmlformats.org/drawingml/2006/table">
            <a:tbl>
              <a:tblPr/>
              <a:tblGrid>
                <a:gridCol w="1641600"/>
                <a:gridCol w="6969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n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vailability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ce by their own, procure the deficit from other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terinary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service by the public &amp; privet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ck of improved animal br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ce from own he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ortage of AI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service by the public &amp; privet  techn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ck of technical knowle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capacity building by extension agent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E7A9-CDE2-42C4-A2B5-E01C0A764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380880" y="456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mplete pair-wise comparisons of these probl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04920" y="990720"/>
          <a:ext cx="8153280" cy="4681440"/>
        </p:xfrm>
        <a:graphic>
          <a:graphicData uri="http://schemas.openxmlformats.org/drawingml/2006/table">
            <a:tbl>
              <a:tblPr/>
              <a:tblGrid>
                <a:gridCol w="3208320"/>
                <a:gridCol w="494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hich problem is more Important to farmer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6442-9527-4BF0-A8CD-C3337B0E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53960" y="914400"/>
          <a:ext cx="8153640" cy="2378160"/>
        </p:xfrm>
        <a:graphic>
          <a:graphicData uri="http://schemas.openxmlformats.org/drawingml/2006/table">
            <a:tbl>
              <a:tblPr/>
              <a:tblGrid>
                <a:gridCol w="2057400"/>
                <a:gridCol w="1222560"/>
                <a:gridCol w="1295280"/>
                <a:gridCol w="1219320"/>
                <a:gridCol w="1216080"/>
                <a:gridCol w="1143000"/>
              </a:tblGrid>
              <a:tr h="761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umber of times the problem was considered the most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Rectangle 81"/>
          <p:cNvSpPr/>
          <p:nvPr/>
        </p:nvSpPr>
        <p:spPr>
          <a:xfrm>
            <a:off x="457200" y="3732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the observatio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is the most critical problem affecting livestock production as farmers notified it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me of site/villag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di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me of district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a’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ry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thiop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ber of participants: 5 (males=4, females=1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14, 201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rt time: 10:50 am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ishing time: 1:45 p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otal time taken = 2:55h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cription of the farming of 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verage farm size = 2ha or 8 kert; [1ha= 4 kert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ypical (or average) household size? 5 pers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ainfall pattern vary over a years 0-5, where 5 = heavy rainfall levels and 0=no rainfall)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eavy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July and Augus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edium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June and Septe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mall RF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April, May and Octo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November through March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are two cropping seas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iremet: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June - July, August &amp; Septe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ega: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ctober - Ma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 the area is suitable for irrig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out  65% of the HH are using irrig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58C5-54A1-4D57-9525-9F66D79B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Chart 2" descr=""/>
          <p:cNvPicPr/>
          <p:nvPr/>
        </p:nvPicPr>
        <p:blipFill>
          <a:blip r:embed="rId1"/>
          <a:stretch/>
        </p:blipFill>
        <p:spPr>
          <a:xfrm>
            <a:off x="378000" y="755640"/>
            <a:ext cx="8388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vailability of labo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shortage of labour due to seasonality of the work lo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s it most required? During October to January  which is the main cropping sea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ce of (daily-paid) labour : between 45 to 50 birr/ d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bour is highly demanded &amp; very expensive during the cropping sea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Agricultural inputs: Credit &amp; land are not readily avail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 Agricultural inputs : urea, plastic sheeting,  irrigation equipment's are not readily available in the local market so farmers are forced to search for them at big tow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321-FEAB-457E-A83A-E25A5106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609480" y="379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ypes of Livestock raised in the ar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52280" y="1025640"/>
          <a:ext cx="8610840" cy="5638680"/>
        </p:xfrm>
        <a:graphic>
          <a:graphicData uri="http://schemas.openxmlformats.org/drawingml/2006/table">
            <a:tbl>
              <a:tblPr/>
              <a:tblGrid>
                <a:gridCol w="1978200"/>
                <a:gridCol w="3584520"/>
                <a:gridCol w="1525680"/>
                <a:gridCol w="1522440"/>
              </a:tblGrid>
              <a:tr h="106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vestock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 of 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at 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speci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umber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imals per 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cal Dairy 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 calf, milk, man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roved dairy 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lk for sale, calf, manur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aught 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aught, threshing, transport 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ttening 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 fiche more money for oxen replac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ultry – 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for egg &amp;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ultry – com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for egg &amp;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 &amp; saddle 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nke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ck agricultural goods, fetch water, thresh cr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E1C-E2AB-437C-BD89-D591A7FC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Chart 2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540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nagement of livesto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using – separate housing, rarely in coral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eding of cattle (stall fed, tethered, open grazing) – open grazing dominant for local &amp; stall feeding for cross breed lactating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ed processing (chopping, urea treatment, mixing etc.)- Combination of all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veterinary services are there but the service is not adequate in most of the cases it is difficult to get drugs; the prophylactic method is not applicable. More over, the cost of treating animals is unaffordable by farmer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ith regard to methods of livestock reproduction: AI &amp; natural mating is being practiced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wever, the availability of AI – service is very problematic; also the rate of repeat services – 2 to 3 times per conception. Farmers are resort to cross bred bull servic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47F4-42DC-418F-BD75-2D167EBF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Chart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19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0:23:21Z</dcterms:created>
  <dc:creator>Lukuyu, Ben (ILRI)</dc:creator>
  <dc:description/>
  <dc:language>en-US</dc:language>
  <cp:lastModifiedBy>PBallantyne</cp:lastModifiedBy>
  <dcterms:modified xsi:type="dcterms:W3CDTF">2012-03-21T10:37:15Z</dcterms:modified>
  <cp:revision>2</cp:revision>
  <dc:subject/>
  <dc:title>FEAST Presentation</dc:title>
</cp:coreProperties>
</file>